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6E0-DFAB-4971-8B5D-3836B03A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AA7-92EF-43F5-9518-66326576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10F-2EE9-4D83-9BB0-B1329169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FF9-6874-40EB-90E0-7144CF24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245-B3DF-4421-911C-13B4A6B8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C66-FA5D-4ABF-8CF4-E66A30F2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11D-D853-431C-90CF-DD80839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13D-AB81-4C75-B512-97BB950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379-98EC-4D3C-9E78-8752B51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904-0DC5-47D1-B312-E1BD1A86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C07-4B2F-4507-AA88-D7687065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05C-22E6-4A4D-BEF5-B73BD17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62320" y="228600"/>
            <a:ext cx="7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4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AEDC-D684-4A17-83CA-4084CD59F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62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060640"/>
            <a:ext cx="741708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ulo César Hartung G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overnador do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ria da Glória Brito Abaurr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ecretária da SE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retora Presidente do I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3048120"/>
            <a:ext cx="871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GESTÃO DE RECURSOS HÍDRICOS NO ESPÍRITO SANTO: PLANO ESTADUAL E OUTORG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retaria de Estado de Meio Ambiente e Recursos Hídricos – SEA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ituto Estadual de Meio Ambiente e Recursos Hídricos - I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800" y="1413000"/>
            <a:ext cx="7912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lítica Estadual de Recursos Hídricos Lei nº 5.818 de 30/12/98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Autoridade outorgante e órgão ambiental: IEMA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Gerência de Recursos Hídricos - G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800" y="1268280"/>
            <a:ext cx="7912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lano Estadual de Recursos Híd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 elaborada pela Gerência de Recursos Hídricos sendo apreciada pela Diretoria do IEM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steriormente será levada a Câmara Técnica de Planos e aprovação junto ao CE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98100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Outor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Resolução do CERH que regulamenta os critérios gerais de outorga em fase final de aprovação pelo Conselho. Próxima reunião: 07/07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Estabelece a necessidade de obtenção da Declaração de Reserva de Disponibilidade Hídric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Defini os critérios técnicos de outorg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Propost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de referência: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rios perenes) e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95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rios intermitent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máxima outorgável: 50%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20% para um mesmo usuário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Regulamenta a manifestação prévi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s (cont.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Critérios técnicos para água subterrânea, lançamento de efluentes e aproveitamento de potencial hidráulico definidos em Portarias específicas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dispensados de outorga até definição de critérios mas devem ser cadastr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1557360"/>
            <a:ext cx="7912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Gerência de Recursos Hídricos – GR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grh@iema.es.gov.b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(27) 3136-3525/35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20:01:06Z</dcterms:created>
  <dc:creator>zedu</dc:creator>
  <dc:description/>
  <dc:language>en-US</dc:language>
  <cp:lastModifiedBy>Iema</cp:lastModifiedBy>
  <cp:lastPrinted>2001-03-14T13:46:02Z</cp:lastPrinted>
  <dcterms:modified xsi:type="dcterms:W3CDTF">2005-06-29T16:52:24Z</dcterms:modified>
  <cp:revision>914</cp:revision>
  <dc:subject/>
  <dc:title>Slide sem título </dc:title>
</cp:coreProperties>
</file>